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6A7-5E01-45AC-8BD1-2A1CC82D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70F-EBE8-4EA1-B4A5-8573BC18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F2D-F0AC-4920-B4D1-C2D49F2A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CEF-8F47-41DC-88D3-62DD68BA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3DE-DD68-4577-B57F-1723F051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655-06A3-4D5B-8F83-BECDB785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065-776A-4FF6-B8F8-1E93C971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BC3-4BA1-409B-B6D1-FFAA6928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DFC-493D-42DC-856E-AF81903C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B6B-F53A-4932-BE00-59811911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D72-716A-4BED-8613-66585DF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651-6913-488A-A3AD-E0A957E4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C44E-41BF-4206-BABA-E3D74457D60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785880"/>
            <a:ext cx="7223400" cy="4932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365040" y="-237960"/>
            <a:ext cx="232236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572160" y="-237960"/>
            <a:ext cx="2853000" cy="22748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279440" y="12600"/>
            <a:ext cx="506088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213280" y="500040"/>
            <a:ext cx="39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تالار ، باغ ، باغ و تال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64372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50:57Z</dcterms:modified>
  <cp:revision>48</cp:revision>
  <dc:subject/>
  <dc:title>Slide 1</dc:title>
</cp:coreProperties>
</file>